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9ED-C82E-47BB-BD52-5D00A4FA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D5C-617F-4837-AAC3-7C0E667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D96-68CF-420D-B162-FFDE5129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071-9CDA-4793-84F8-900804AB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FBCA-5E69-4207-B3E7-4BF93340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8D84-09F4-43A9-8A77-B1FEC23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1E0-98CD-4C56-AE0B-9DAE9DB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D568-852B-4003-A82B-F051B8BF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4220-18C3-407A-B643-6E6A0B1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15FB-E13C-4171-B488-D09DE09B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EF7F-481F-4EB1-8254-A5ED0DE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440-7D67-47D0-9B40-947ABAF7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CA03-BC04-4C54-90AE-3C2FFB2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5DFE-DA82-4AF4-9323-F5BE4D3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ABE0-17E7-48E8-A9D7-A9BB7FB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FF48-7DCA-4860-936E-BE12D282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849-A7C6-4F17-A288-90CFEE9E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E09-BC36-409E-88C1-4F0A59BA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632-032F-480F-A524-CC5C8197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BFA-B71E-4289-801A-A6B43139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16A-1B60-4F56-84C4-93A7FEF6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014-B7C5-4300-82C8-06FEF0A6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C53-5A15-4F1D-B440-C633C93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05C-3D75-485C-8A3A-B776680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C52A-F985-409C-A9C8-3B9CDA201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AE1-0A9C-4917-8962-BFC515D4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ctors.cx/paramedics/apps/abg.cgi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 ABCs of AB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ita Kuruvilla and Jessica Co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 ICU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60 / 19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40 / 60 / 19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6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9 / -7.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, uncompens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80 / 26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33 / 80 / 26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6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lkalosis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hyper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ady to try some real life cases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7" descr="happy%20and%20excited"/>
          <p:cNvPicPr/>
          <p:nvPr/>
        </p:nvPicPr>
        <p:blipFill>
          <a:blip r:embed="rId1"/>
          <a:stretch/>
        </p:blipFill>
        <p:spPr>
          <a:xfrm>
            <a:off x="3200400" y="228600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year old male with multiple ad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H: Poorly controlled diabetes, polysubstance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: dry mucus membranes with fruity odor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: Anion gap 25, glucose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1 / 7 / 142 / 2 / -28.3 / 99 /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lkal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the metabolic acido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s: IVF, bicarb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year old female with long history of alcohol abuse presents to the ER with epigastric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ed for severe acute pancreatitis and received over 25 Liters of IVF in first 3 days of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was done 3 week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7 / 68 / 100 / 48 / 21.8 / 98 /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lkalo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cid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her alkal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: gentle fluids, diam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 year old female presented with chest and abdominal pain, intubated in the 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ICU course with multiple intubations and then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 dependent for most of her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done 2 month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PM: 7.27 / 64 / 58 / 29 / 1.2 / 87 /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M: 7.34 / 64 / 57 / 38 / 3.7 / 93 / 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cidosis, with subsequent compensation, probably from CO2 narc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: Improve ventilation, increase Respiratory Rate, increas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n-vented patients, bipap or intu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0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1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an ABG, obtain patient history and try to identify baselin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 the ABG into the various components, analyze, then put it back together with the patient’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auses and brainstorm inter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Outline and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and review of arterial blood gas, metabolic/respiratory acidoses/alkalos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Interpretation of arterial bloo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cases/clinical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the purpose of arterial blood gases in clinical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therapeutic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BG tutorial: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vectors.cx/paramedics/apps/abg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3033720" y="1285920"/>
          <a:ext cx="307656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285920"/>
                    <a:ext cx="30765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BG: Normal Val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-4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10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-28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Ex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-+2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e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8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ss than 7.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greater than 7.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ka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can be metabolic or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e the pCO2 and the HCO3- to determine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CO2 and HCO3-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gt;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CO2 narcosis, brai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lt; 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lt;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sepsis, DKA, alcohol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gt;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vomiting, massive diu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13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2 and sO2: 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2 = PaO2: arterial oxygen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oxygen dissolved from alveoli into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 = SaO2: arterial oxygen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proportion of red blood cells whose hemoglobin is bound t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e Excess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.k.a. the idiot’s guide to rapidly interpreting ABGs prior to drinking coffee…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ositive 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metabolic alka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egativ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 metabolic 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if greater tha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for Interpre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H and the Base Excess and decide if it is acidosis, alkalosis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CO2 and the HCO3- and decide if it is metabolic, respiratory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ensation present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O2, the sO2, and the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mmarize whether it is a simple acidosis /alkalosis, mixed, and/or compens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90 / 25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/ 90 / 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5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22:46Z</dcterms:created>
  <dc:creator>HCMARTINEZ</dc:creator>
  <dc:description/>
  <dc:language>en-US</dc:language>
  <cp:lastModifiedBy>HCMARTINEZ</cp:lastModifiedBy>
  <dcterms:modified xsi:type="dcterms:W3CDTF">2009-06-02T22:11:50Z</dcterms:modified>
  <cp:revision>16</cp:revision>
  <dc:subject/>
  <dc:title>The ABCs of ABGs</dc:title>
</cp:coreProperties>
</file>